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3A6-C30C-4D8C-AAE6-3AA43152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652-7D75-4A03-A4F4-2A0D0DE0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D49-B137-4B93-9F68-F1B24343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BDA-5C3C-48C3-9F3C-1CAB0D84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44D-78AD-4A4B-9EED-15CEA351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331-C726-477E-B23B-D5069708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259-7FF9-4AD7-8F0F-927F5E9F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236-721A-4F87-AA4C-5838E390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74E-AC21-4578-AAC0-A9C67F37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ED0-5017-428F-B7C2-5646130D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2F7-F135-40B6-B65A-154B2561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426-9B9E-4554-9978-639A72EE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CC2-4FA2-4E41-A25D-C2ECB3216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farm4.static.flickr.com/3269/2354184427_37fbdc2e50.jpg&amp;imgrefurl=http://www.flickr.com/photos/ikulyl/2354184427/&amp;usg=__th2U5n6X-lCDSONqrtWzuJRYl8Q=&amp;h=341&amp;w=500&amp;sz=76&amp;hl=es&amp;start=21&amp;tbnid=jCzmZ98LA0G3AM:&amp;tbnh=89&amp;tbnw=130&amp;prev=/images%3Fq%3DHARD%2BWORK%26gbv%3D2%26ndsp%3D20%26hl%3Des%26sa%3DN%26start%3D20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yczoom.com/getimage.php?f=ap6ZoJatwnR_Y2dpa5qzvK4,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1341360"/>
            <a:ext cx="597708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DJECTIV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4057920" cy="3038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9640" y="49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0" y="1141560"/>
            <a:ext cx="6480000" cy="4574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1000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41560" y="476280"/>
            <a:ext cx="5261040" cy="568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50760" y="47628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9640" y="1936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549360"/>
            <a:ext cx="5468760" cy="590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0920" y="-22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4480" y="752400"/>
            <a:ext cx="3515040" cy="5353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5280" y="1206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1160" y="1171440"/>
            <a:ext cx="6781680" cy="451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89000"/>
            <a:ext cx="76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148280" cy="2840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114800" y="328464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058000" y="625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Ver imagen en tamaño compl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549360"/>
            <a:ext cx="4321080" cy="3260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00720" y="3375000"/>
            <a:ext cx="4643280" cy="347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02720" y="48096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3880" y="1019160"/>
            <a:ext cx="6096240" cy="4819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4000" y="-22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809880" cy="3152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11640" y="3284640"/>
            <a:ext cx="4191120" cy="2943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86360" y="3380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0:58:17Z</dcterms:created>
  <dc:creator>I.E.S. FEDERICO GARCIA LORCA</dc:creator>
  <dc:description/>
  <dc:language>en-US</dc:language>
  <cp:lastModifiedBy>rmi</cp:lastModifiedBy>
  <dcterms:modified xsi:type="dcterms:W3CDTF">2009-05-29T17:13:31Z</dcterms:modified>
  <cp:revision>3</cp:revision>
  <dc:subject/>
  <dc:title>Diapositiva 1</dc:title>
</cp:coreProperties>
</file>